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187-4208-4F32-901C-2D837C2C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290-9328-49FD-8E1A-C345397E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62D-170F-41E0-8B29-F518A984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D5E-56F1-480C-968B-A2C85C0B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E93-947E-492E-98FF-154FDAA0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416-01BD-4202-9D38-CA94DEEB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B25-5CF0-479C-9F7B-D198E1BF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874-EB5A-4606-8CE1-16320A67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9A3-C0B1-44C7-BFF1-19889E30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EE9-F814-42D5-B732-DEB0A0E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4C1-2F49-44A9-BA25-DE47CF67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C90-4A68-45BD-847E-9E5BDB6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8536-391C-4914-8145-55027E20D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nish and Pre-Columbi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Cody 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9480" y="3581280"/>
            <a:ext cx="2514600" cy="99072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04920"/>
            <a:ext cx="1371600" cy="152388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476760" y="304920"/>
            <a:ext cx="1981080" cy="18288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562360" y="3657240"/>
            <a:ext cx="1981080" cy="106668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. the effects of European diseases, particularly smallpox, throughout the West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ztecs lived in Central Mexic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ir capital Tenochitlan was in the middle of a la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ztecs were polytheistic which meant they believed In many g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believed in a god called Quetzacoatl who would arrive in the year 151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controlled many other tribes and used them as sl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ztecs leader was Montez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y Tenochitlan is now  Mexico 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thought Cortez was Quetzacoatl because of his pale white skin and his men and hor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tez killed Montezuma and destroyed Tenochitl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465280"/>
            <a:ext cx="4038480" cy="2795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18240" y="48762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ved in the Andes mountains and Pe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were also 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writte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knots as mess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d animal sacrifice and occasionally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as did not care for gold and other met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as used metals for déc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der of Incas was Atahua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huapla was captured for ransom but was k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648320" cy="441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17720" y="57906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ved in Yucatan Peninsul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t just one major capital so it was much harder to conqu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were polytheisti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did not own much gol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 slaves who could sometimes escap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2870280"/>
            <a:ext cx="4038480" cy="1985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61400" y="525708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pace.utexas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iard and Conquistad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tez was mistaken for a god named Quetzacoat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tez took Montezuma hostage and killed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ish retreated and then defeated the Azte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05440" y="2857680"/>
            <a:ext cx="1524240" cy="200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09480" y="510552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hepiratek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zzaro was an explorer and a conquistador from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traveled with 180 men and 27 horses into the Andes Mt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as were easily taken over because of civil war.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(Fighting between two or more groups in the same coun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hulpa, Inca emperor was captured by Pizzaro and held for g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as did not value metals instead they valued woven clo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zzaro tricked Incas and soon conquered their capi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29240" y="285768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85080" y="502848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ssexplorers.yolasite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conquistadors changed Central and South America, the Aztec, Inca and Maya  language and culture would still be remembered. Today most people in Mexico are Christian and speak Spa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7:06Z</dcterms:created>
  <dc:creator>jklib</dc:creator>
  <dc:description/>
  <dc:language>en-US</dc:language>
  <cp:lastModifiedBy>jklib</cp:lastModifiedBy>
  <dcterms:modified xsi:type="dcterms:W3CDTF">2011-11-29T13:55:41Z</dcterms:modified>
  <cp:revision>9</cp:revision>
  <dc:subject/>
  <dc:title>Spanish and Pre-Columbian Civilizations</dc:title>
</cp:coreProperties>
</file>